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54D-225C-430D-9F24-071D31A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C46-D8E0-4905-8090-6A74C512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5E9-392B-4953-9DB9-973667B9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EE4-F10A-4E99-914E-845455B0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459-5408-4279-B221-ABFE049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750-E7B1-492F-B970-CD579376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2D8-17EB-46A5-B762-92A5586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B58-928C-4F55-8084-AF75C32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88C-D5B7-4A20-AF18-E7C0D2D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24D-6866-4CC1-A110-35065EB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5DD-1CA1-49B2-82A8-7B9D5E8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41E-F9F6-47D0-A476-E7AE3D8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75E9F-AE4E-428C-AD00-F35631E65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2613B-4983-41D0-AAC9-0142C8628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3:37:53Z</dcterms:created>
  <dc:creator>Caroline Roth</dc:creator>
  <dc:description/>
  <dc:language>en-US</dc:language>
  <cp:lastModifiedBy>Caroline Roth</cp:lastModifiedBy>
  <cp:lastPrinted>2011-03-22T03:53:23Z</cp:lastPrinted>
  <dcterms:modified xsi:type="dcterms:W3CDTF">2011-03-22T04:08:11Z</dcterms:modified>
  <cp:revision>6</cp:revision>
  <dc:subject/>
  <dc:title>Slide 1</dc:title>
</cp:coreProperties>
</file>